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367963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8CD-7AFF-4C60-BC32-80FF3597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149868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D0E-6F27-4614-8C79-1F9E0B4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CA7-A94A-4A51-8752-8107361F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416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956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416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956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7BC-454E-4900-9283-8505436C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095-8490-477F-9FD4-E9218D1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A76-4B80-4DCE-A68D-DF3D6FA5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D65-4D0B-43F8-B053-94ACBB6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F03-A347-42A8-A5B0-3BCEFE1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120" y="102960"/>
            <a:ext cx="93312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471-DB88-44E9-8CCF-237B83F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CA1-1047-47F7-9729-859BA56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67A-9ADE-45AA-AA3B-BE46B84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D3C-E8BC-47F4-B99E-D47E233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102960"/>
            <a:ext cx="93312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9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0080" indent="-9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9120" y="2360160"/>
            <a:ext cx="241920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2360160"/>
            <a:ext cx="328284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31120" y="2360160"/>
            <a:ext cx="241920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6EE6-A8D0-40FB-B97F-7892C5F89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